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BB8B3-0820-4F47-8206-DE7FD0EB89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ff0000"/>
                </a:solidFill>
                <a:latin typeface="Arial"/>
              </a:rPr>
              <a:t>PACOTE DE FORMAÇÃO DE PREPARAÇÃO E RESPOSTA À EV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ff0000"/>
                </a:solidFill>
                <a:latin typeface="Arial"/>
              </a:rPr>
              <a:t>Capacidades nos Pontos de En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Marcador de Posição do Número do Diapositivo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45AA2-241F-43C1-944E-8DF09716E7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ff0000"/>
                </a:solidFill>
                <a:latin typeface="Arial"/>
              </a:rPr>
              <a:t>PoE of departure = </a:t>
            </a:r>
            <a:r>
              <a:rPr b="1" lang="pt-PT" sz="1200" spc="-1" strike="noStrike">
                <a:solidFill>
                  <a:srgbClr val="ff0000"/>
                </a:solidFill>
                <a:latin typeface="Arial"/>
              </a:rPr>
              <a:t>PE de partida</a:t>
            </a:r>
            <a:r>
              <a:rPr b="0" lang="pt-PT" sz="1200" spc="-1" strike="noStrike">
                <a:solidFill>
                  <a:srgbClr val="ff0000"/>
                </a:solidFill>
                <a:latin typeface="Arial"/>
              </a:rPr>
              <a:t>;  During embarkation = </a:t>
            </a:r>
            <a:r>
              <a:rPr b="1" lang="pt-PT" sz="1200" spc="-1" strike="noStrike">
                <a:solidFill>
                  <a:srgbClr val="ff0000"/>
                </a:solidFill>
                <a:latin typeface="Arial"/>
              </a:rPr>
              <a:t>Durante o embarque</a:t>
            </a:r>
            <a:r>
              <a:rPr b="0" lang="pt-PT" sz="1200" spc="-1" strike="noStrike">
                <a:solidFill>
                  <a:srgbClr val="ff0000"/>
                </a:solidFill>
                <a:latin typeface="Arial"/>
              </a:rPr>
              <a:t>;  On board conveyance = </a:t>
            </a:r>
            <a:r>
              <a:rPr b="1" lang="pt-PT" sz="1200" spc="-1" strike="noStrike">
                <a:solidFill>
                  <a:srgbClr val="ff0000"/>
                </a:solidFill>
                <a:latin typeface="Arial"/>
              </a:rPr>
              <a:t>No transporte a bordo</a:t>
            </a:r>
            <a:r>
              <a:rPr b="0" lang="pt-PT" sz="1200" spc="-1" strike="noStrike">
                <a:solidFill>
                  <a:srgbClr val="ff0000"/>
                </a:solidFill>
                <a:latin typeface="Arial"/>
              </a:rPr>
              <a:t>;  During transit between flights or stopover = </a:t>
            </a:r>
            <a:r>
              <a:rPr b="1" lang="pt-PT" sz="1200" spc="-1" strike="noStrike">
                <a:solidFill>
                  <a:srgbClr val="ff0000"/>
                </a:solidFill>
                <a:latin typeface="Arial"/>
              </a:rPr>
              <a:t>Durante o trânsito entre vôos ou paragens</a:t>
            </a:r>
            <a:r>
              <a:rPr b="0" lang="pt-PT" sz="1200" spc="-1" strike="noStrike">
                <a:solidFill>
                  <a:srgbClr val="ff0000"/>
                </a:solidFill>
                <a:latin typeface="Arial"/>
              </a:rPr>
              <a:t>;  At PoE of destination (desembarkation) = </a:t>
            </a:r>
            <a:r>
              <a:rPr b="1" lang="pt-PT" sz="1200" spc="-1" strike="noStrike">
                <a:solidFill>
                  <a:srgbClr val="ff0000"/>
                </a:solidFill>
                <a:latin typeface="Arial"/>
              </a:rPr>
              <a:t>No PE de destino (desembarque)</a:t>
            </a:r>
            <a:r>
              <a:rPr b="0" lang="pt-PT" sz="1200" spc="-1" strike="noStrike">
                <a:solidFill>
                  <a:srgbClr val="ff0000"/>
                </a:solidFill>
                <a:latin typeface="Arial"/>
              </a:rPr>
              <a:t> ;  After travel = </a:t>
            </a:r>
            <a:r>
              <a:rPr b="1" lang="pt-PT" sz="1200" spc="-1" strike="noStrike">
                <a:solidFill>
                  <a:srgbClr val="ff0000"/>
                </a:solidFill>
                <a:latin typeface="Arial"/>
              </a:rPr>
              <a:t>Após a viagem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Marcador de Posição do Número do Diapositivo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189FD-5FEB-4F82-876A-07307096B2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79C4-C1BB-4789-B330-460931AAD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5022-7EA6-478C-A52B-AAE617981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4BBE-4730-4462-9C49-FCA1EC348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8C3F-6F0D-44AE-997F-90FF61B3B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4B81-C0F9-4794-8FAC-903AEFEBA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1C41-49C9-4CA5-BAA6-610284282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6E63-D19A-40E6-BED7-5FE6F875F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CB2C-6BBA-421F-93D2-DABDBC571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D021-2680-450A-BDCD-2712765D4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92D2-D426-497F-89D4-F43C54C0D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FB8A-0C53-4F55-B7A3-80A9A0CE2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330A-350F-4D46-9CFA-05034D04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840B4-0D75-4666-B8C9-575B99AE19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84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81A29DFA-BA50-446F-923F-5985CE547C14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3"/>
          <p:cNvSpPr/>
          <p:nvPr/>
        </p:nvSpPr>
        <p:spPr>
          <a:xfrm>
            <a:off x="0" y="2205000"/>
            <a:ext cx="9144000" cy="16574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Verdana"/>
              </a:rPr>
              <a:t>Capacidades nos Pontos de Entrad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streio da EVD no Ponto de Entra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50920" y="764640"/>
            <a:ext cx="864216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À chegada de países afectados pela EV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pessoal formado a trabalhar em PE deverá observar os passageiros e detectar sinais e sintomas da doenç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das as pessoas chegadas de países afectados pela EVD deverão fornecer informações sobre o seu contacto e endereço físic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r-se-á o controlo da temperatura dos passageiros oriundos de países afectados pela EVD (opcional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funcionários de saúde deverão dar informações sobre a EVD e números telefónicos das Emergências, aconselhando a automonitorização dos sinais e sintomas de EV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713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ctivo 3. Dispositivos médicos usados para rastre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24000" y="1268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s de rastre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ómetros de infravermelh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u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por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 e fluxogra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4572000" y="1557360"/>
            <a:ext cx="4361040" cy="26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394920" y="105264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Calibri"/>
              </a:rPr>
              <a:t>Outro material: 9 Conjuntos completos PPE no equipamento médico de cada PE para vigiar os cas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3 Termómetros manuais de infravermelhos, 1 Scanner, 2 salas de observaçã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Calibri"/>
              </a:rPr>
              <a:t>2 salas e material sanitário para um isolamento seguro e observação de casos suspeitos, se possível em salas separadas, caso contrário numa área separad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Calibri"/>
              </a:rPr>
              <a:t>Em função da localização geográfica, 1 ambulância no 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ctivo 4. Instalações, Equipamento e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nsagens-Chav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78920" y="1484280"/>
            <a:ext cx="85186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ão deverá haver nenhuma proibição geral nos transportes ou no comércio internacional, nem à saída nem à entrada nos países afectad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s países deverão fornecer aos passageiros para países e zonas afectadas pelo Ébola informações relevantes sobre os ris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s países deverão estar preparados para detectar, investigar e tratar casos de Ébola e ter ainda a capacidade de tratar os passageiros oriundos de conhecidas zonas infectadas pelo Ébola, que cheguem aos PE com doença febril inexplic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rá ser dada informação rigorosa e relevante ao público em geral acerca do surto do Ébola e das medidas para reduzir o risco de exposi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78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ferências e outras orientaçõ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ote de Orientações para Rastreio de Saída do Ébola - OMS, Setembro 201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valiação dos riscos de viagens e transportes: Orientações internas para autoridades de saúde pública e do sector dos transpor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ientações internas da OMS para Gestão de Eventos de Ébola nos Pontos de Entrada, Setembro 2014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bjectivos da Aprendizage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8360" y="1052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o Ger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o final da sessão, os participantes deverão saber rastrear os passageiros para a EVD, nos pontos de Saída e de Entrad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Objectivos Intermédio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bjectivo 1: Compreender a finalidade do rastreio dos passageiros para a EVD, nos Pontos de Entrada (P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bjectivo 2: Familiar-se com o necessário processo de rastreio da EVD nos P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bjectivo 3. Conhecer os instrumentos usados para rastrear nos Pontos de Entrada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bjectivo 4. Conhecer as instalações, POP, equipamento, e material necessário nos Pontos de Entrada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bjectivo 1: Finalidade do rastreio para a EVD nos 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196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nhuma pessoa com uma doença consistente com o Ébola deverá ser autorizada a viajar, a menos que essa viagem faça parte de uma evacuação médica adequad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r.ª Margaret Chan, Directora-Geral da OMS,8 de Agosto de 2014, Gen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inalidade do rastrei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s planos de Emergência de Saúde Pública (ESP) e os POP deverão ser implementados nos Pontos de Entrada (PE) designados. A finalidade 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necer uma detecção precoce das pessoas potencialmente infectadas, isoladas e tratar os casos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lementar as recomendações da OMS relativas à prevenção e controlo da EV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evenir a propagação internacional da doença, permitindo às autoridades que evitem restrições e atrasos desnecessários nos P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6868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ontenciais pontos de detecção e notificação de riscos para a saúde públ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8524800" cy="3024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324000" y="2565360"/>
            <a:ext cx="8524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856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0000"/>
                </a:solidFill>
                <a:latin typeface="Arial"/>
              </a:rPr>
              <a:t>Objectivo 2: Processo de rastreio à Saída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(1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24000" y="112500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países com transmissão do Ébola deverão efectuar um rastreio à saída para todas as pessoas, nos aeroportos internacionais, portos marítimos e principais fronteiras terrestres, para doenças febris não explicadas consistentes com potencial infecção pelo Ébo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ssen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s aeroportos, os rastreios deverão ser feitos no primeiro controlo de segurança, antes do balcão d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heck-i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requisitos mínimos s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 questioná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 dispositivo para medir a tempera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 houver febre, avaliação do risco da febre ser causada por EV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785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ocesso de rastreio: </a:t>
            </a: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Rastreio de Saíd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streio privado para identificar passageiros em risco de exposição e com sinais de EV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dos os passageiros deverão preencher um questionário sanitário para detectar o risco de exposi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ssoal formado a trabalhar no PE para observar os passageiros e detectar sinais e sintomas da doenç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o da temperatura para todos os passageir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 um passageiro tiver febre ou estiver em risco de exposição, deverá fazer um segundo rastre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8920" y="274680"/>
            <a:ext cx="8713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ocesso de rastreio: </a:t>
            </a: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Rastreio de Saíd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streio secundário para uma avaliação mais profunda do risco de exposição/infecção de passageiros, por pessoal formado em saúde públi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pessoas identificadas com suspeitas de infecção /exposição à EVD são avaliadas pelos sinais e sintomas por pessoal formado em saúde públ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pessoal formado em saúde pública procederá a uma entrevista de saúde pública (questionário mais aprofundado) e repetirá o controlo da temperatu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 base no rastreio secundário, o funcionário 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úde pública poderá liberar o passageiro ou transferi-lo para as autoridades médicas de saúde públ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Arial"/>
              </a:rPr>
              <a:t>Processo de rastreio: Transferência para as autoridades </a:t>
            </a:r>
            <a:r>
              <a:rPr b="1" lang="pt-PT" sz="2900" spc="-1" strike="noStrike">
                <a:solidFill>
                  <a:srgbClr val="000000"/>
                </a:solidFill>
                <a:latin typeface="Arial"/>
              </a:rPr>
              <a:t>sanitária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50560" y="1197000"/>
            <a:ext cx="84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a decisão do funcionário de saúde pública for transferi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ar transporte para o estabelecimento de saúde e notificar as autoridades de saúde púb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ôr o passageiro em causa na lista de restrições de viag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 processo de rastreio à saída deverá ser acompanhado de uma extensa campanha de sensibilização do público para esta questão de saúde públic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Ana</cp:lastModifiedBy>
  <cp:lastPrinted>2013-10-01T07:19:12Z</cp:lastPrinted>
  <dcterms:modified xsi:type="dcterms:W3CDTF">2014-11-24T13:03:58Z</dcterms:modified>
  <cp:revision>364</cp:revision>
  <dc:subject/>
  <dc:title>DPC Training and Technical Update</dc:title>
</cp:coreProperties>
</file>